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393-D0BD-4D51-A093-6F08C5E3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F32-71EC-4AAA-9AFB-580392AC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3BB-0945-4629-A88C-EB443DE8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242-A7AC-4805-A8FD-86A8BF42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14D7-28D5-478D-B3B0-B07FEAE4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661C-FFF8-4040-9299-F5BB5958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F5D8-4377-46D0-87EC-B9B2D9F1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BD05-C985-4545-A561-25AA26F0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0268-998C-43DA-A5F1-51BAEED9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BB8C-1214-4A9A-B825-173969AE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3FDC-01BE-4240-BD62-96C37838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8C9A-56B8-4D7F-B20C-0506345C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0690-0861-4E29-B414-73902E9C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E3AD-F954-45F2-8574-EA4AB169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A136-1039-464E-A62E-FC1ACE80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258F-616C-47F0-AF0D-525B0A90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1575-A1E2-420B-A25E-FAA66661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1C4-ABB5-4009-8110-99F77A9C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A3D-FE7B-49ED-8DF5-7BE84A6C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DEB3-BCF4-4721-A36E-1F2D61E8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58E-7B09-4121-9932-AF724EFC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8270-E7F2-457E-BB59-DE74AC2C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28E-3752-4DFD-979F-1966AF6F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292-3979-4E00-9E17-31E1BFF5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680" y="4267080"/>
            <a:ext cx="9139320" cy="2590920"/>
            <a:chOff x="4680" y="4267080"/>
            <a:chExt cx="9139320" cy="2590920"/>
          </a:xfrm>
        </p:grpSpPr>
        <p:sp>
          <p:nvSpPr>
            <p:cNvPr id="2" name=""/>
            <p:cNvSpPr/>
            <p:nvPr/>
          </p:nvSpPr>
          <p:spPr>
            <a:xfrm>
              <a:off x="4680" y="4267080"/>
              <a:ext cx="913932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1240" y="5897520"/>
              <a:ext cx="1256400" cy="827280"/>
              <a:chOff x="5601240" y="5897520"/>
              <a:chExt cx="125640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384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960" y="6095880"/>
                <a:ext cx="71676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88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924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324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720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640" y="6620040"/>
                <a:ext cx="70416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124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9016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92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20240" y="5764320"/>
              <a:ext cx="2580120" cy="1084320"/>
              <a:chOff x="2820240" y="5764320"/>
              <a:chExt cx="258012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720" y="6245280"/>
                <a:ext cx="101268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800" y="6283440"/>
                <a:ext cx="8618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640" y="6316560"/>
                <a:ext cx="79488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480" y="6345360"/>
                <a:ext cx="70452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480" y="6357960"/>
                <a:ext cx="65520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920" y="6391440"/>
                <a:ext cx="48564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840" y="6438960"/>
                <a:ext cx="36000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960" y="6504120"/>
                <a:ext cx="14220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4000" y="6067440"/>
                <a:ext cx="71244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920" y="6114960"/>
                <a:ext cx="141516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520" y="6076800"/>
                <a:ext cx="64584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00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3200" y="5850000"/>
                <a:ext cx="132480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4240" y="6116760"/>
                <a:ext cx="27108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32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80280" y="5764320"/>
                <a:ext cx="171036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16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20240" y="5830920"/>
                <a:ext cx="76320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440" y="5334120"/>
              <a:ext cx="2144160" cy="1303200"/>
              <a:chOff x="6553440" y="5334120"/>
              <a:chExt cx="214416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20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440" y="534348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796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24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40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188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40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36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268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980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3920" cy="409680"/>
              <a:chOff x="8381880" y="4800600"/>
              <a:chExt cx="67392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768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320" y="4800600"/>
                <a:ext cx="40896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120" y="4867200"/>
                <a:ext cx="9468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360" y="5153040"/>
                <a:ext cx="30456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19680" y="4829040"/>
                <a:ext cx="25524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440" y="4829040"/>
                <a:ext cx="29484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4840" y="4854600"/>
                <a:ext cx="47412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080" y="4897440"/>
                <a:ext cx="360000" cy="209520"/>
                <a:chOff x="8542080" y="4897440"/>
                <a:chExt cx="36000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080" y="4897440"/>
                  <a:ext cx="360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6640" y="4919760"/>
                  <a:ext cx="28836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0920" y="4935600"/>
                  <a:ext cx="19800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3760" y="4960800"/>
                  <a:ext cx="11556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F2B0-E157-44F5-B4D1-96BF1B80F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80" y="4267080"/>
            <a:ext cx="9139320" cy="2590920"/>
            <a:chOff x="4680" y="4267080"/>
            <a:chExt cx="9139320" cy="2590920"/>
          </a:xfrm>
        </p:grpSpPr>
        <p:sp>
          <p:nvSpPr>
            <p:cNvPr id="107" name=""/>
            <p:cNvSpPr/>
            <p:nvPr/>
          </p:nvSpPr>
          <p:spPr>
            <a:xfrm>
              <a:off x="4680" y="4267080"/>
              <a:ext cx="913932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1240" y="5897520"/>
              <a:ext cx="1256400" cy="827280"/>
              <a:chOff x="5601240" y="5897520"/>
              <a:chExt cx="125640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384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960" y="6095880"/>
                <a:ext cx="71676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88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924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324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720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640" y="6620040"/>
                <a:ext cx="70416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124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9016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92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20240" y="5764320"/>
              <a:ext cx="2580120" cy="1084320"/>
              <a:chOff x="2820240" y="5764320"/>
              <a:chExt cx="258012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720" y="6245280"/>
                <a:ext cx="101268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800" y="6283440"/>
                <a:ext cx="86184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640" y="6316560"/>
                <a:ext cx="79488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480" y="6345360"/>
                <a:ext cx="70452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480" y="6357960"/>
                <a:ext cx="65520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920" y="6391440"/>
                <a:ext cx="48564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840" y="6438960"/>
                <a:ext cx="36000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960" y="6504120"/>
                <a:ext cx="14220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4000" y="6067440"/>
                <a:ext cx="71244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920" y="6114960"/>
                <a:ext cx="141516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520" y="6076800"/>
                <a:ext cx="64584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00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3200" y="5850000"/>
                <a:ext cx="132480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4240" y="6116760"/>
                <a:ext cx="27108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32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80280" y="5764320"/>
                <a:ext cx="171036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16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20240" y="5830920"/>
                <a:ext cx="76320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440" y="5334120"/>
              <a:ext cx="2144160" cy="1303200"/>
              <a:chOff x="6553440" y="5334120"/>
              <a:chExt cx="214416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20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440" y="534348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796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24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40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188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40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36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268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980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3920" cy="409680"/>
              <a:chOff x="8381880" y="4800600"/>
              <a:chExt cx="67392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768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320" y="4800600"/>
                <a:ext cx="40896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120" y="4867200"/>
                <a:ext cx="9468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360" y="5153040"/>
                <a:ext cx="30456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9680" y="4829040"/>
                <a:ext cx="25524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440" y="4829040"/>
                <a:ext cx="29484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4840" y="4854600"/>
                <a:ext cx="47412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080" y="4897440"/>
                <a:ext cx="360000" cy="209520"/>
                <a:chOff x="8542080" y="4897440"/>
                <a:chExt cx="36000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080" y="4897440"/>
                  <a:ext cx="360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6640" y="4919760"/>
                  <a:ext cx="28836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0920" y="4935600"/>
                  <a:ext cx="19800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3760" y="4960800"/>
                  <a:ext cx="11556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2677-3D26-42B1-8F6C-6D4BD3F91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ffective 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assroom Managemen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tion Work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1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d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ssica Persa &amp; Kate Erdo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re Adv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give up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room management is an ongoing proce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consist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tough and then lighten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row” ideas and keep adding to your bag of tricks and soon you’ll have the repertoire of a seasoned teac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shop Ob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nts will rate their current classroom management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rs will discuss the various facets of classroom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rs will demonstrate and provide strategies and resources to improve classroom managemen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assroom management causes the most fear and consternation in new teachers, and not so new teachers too!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1496880" cy="1911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5791320" y="3962520"/>
            <a:ext cx="16254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1066680"/>
            <a:ext cx="6629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intaining good order in the classroom is one of the most difficult tasks facing new or experienced teacher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339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19814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609480"/>
            <a:ext cx="7924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many different practices that can be used for good classroom manage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553080" y="3048120"/>
            <a:ext cx="1143000" cy="1825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657600" y="4038480"/>
            <a:ext cx="1143000" cy="182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143000" y="3048120"/>
            <a:ext cx="11430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685800"/>
            <a:ext cx="739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assroom management is a skill that not only must be learned, but practiced dai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226692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685800"/>
            <a:ext cx="685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with all classroom management practices, take into account the age and personality of your class as a group, of you as a teacher and ADAP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342120" y="4024440"/>
            <a:ext cx="2705040" cy="2462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72880" y="4368960"/>
            <a:ext cx="30848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haracteristics of Effectiv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lassroom Manag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a safe, secure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nows his/her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s organiz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ablishes and clearly communicates rules, goals and expec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ponds predictably and consistentl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dvice from thos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o have been there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positive relationships of mutual respect with stud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behavior is much more effective than managing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commit “assumicide” and think your students have the prior knowledge to meet your behavioral expect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 and practice each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4:19:54Z</dcterms:created>
  <dc:creator>nasd</dc:creator>
  <dc:description/>
  <dc:language>en-US</dc:language>
  <cp:lastModifiedBy>kate erdosy</cp:lastModifiedBy>
  <cp:lastPrinted>2007-02-27T04:10:22Z</cp:lastPrinted>
  <dcterms:modified xsi:type="dcterms:W3CDTF">2009-10-03T19:39:38Z</dcterms:modified>
  <cp:revision>13</cp:revision>
  <dc:subject/>
  <dc:title>Effective  Classroom Manag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23602769</vt:r8>
  </property>
  <property fmtid="{D5CDD505-2E9C-101B-9397-08002B2CF9AE}" pid="3" name="_AuthorEmail">
    <vt:lpwstr>erdosyk@Northampton.k12.pa.us</vt:lpwstr>
  </property>
  <property fmtid="{D5CDD505-2E9C-101B-9397-08002B2CF9AE}" pid="4" name="_AuthorEmailDisplayName">
    <vt:lpwstr>Erdosy, Kathleen - LE</vt:lpwstr>
  </property>
  <property fmtid="{D5CDD505-2E9C-101B-9397-08002B2CF9AE}" pid="5" name="_EmailSubject">
    <vt:lpwstr/>
  </property>
</Properties>
</file>